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3E4-2345-4383-B08D-FCFADDC6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8FD-72A7-4857-A767-016BFFD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6F1-6EE4-4868-9E42-57D1D7DE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7921-DC58-4DEB-8E75-3439BDD7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D146-EE14-4716-B669-0E6546F7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5539-058E-4445-A9D4-757ABE50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ADCD-BF22-494E-87FC-ABE9D9BA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C18-6043-4381-8266-D345CFA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929-727D-41D1-A644-708ECB65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2F82-52B3-417D-ABBB-17748EAF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CDE1-CA7B-4F22-B796-2198BA9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362-9B35-4F86-9844-736858B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3F79-1124-4C51-AF65-26945A5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0072-5D28-4A2C-8472-F843F67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C97-0A54-4632-A2E5-5E03757E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1C24-8D96-420F-B74D-F515822E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362E-9F97-4BF0-88C3-9CC0EDD6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7D8-2A80-4655-9689-04D2C427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B0D1-0120-4643-A2ED-9956A94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5DC-6B03-43A9-8E3B-90F6570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613-9602-4DCE-9095-0E9673C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024-D524-47EA-B3C2-EE31893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2F1-FAA0-4B9C-8DB7-8936766B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254-72E9-4278-933B-8036F9A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C70E-6CCA-4091-AD62-7914E18B28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2380-F7B7-47B1-9504-7C02862528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Go Tell The Good News”</a:t>
            </a:r>
            <a:br>
              <a:rPr sz="5700"/>
            </a:b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Part 1</a:t>
            </a:r>
            <a:br>
              <a:rPr sz="43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Church Is Scattered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11, Lesson 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cts 9:32 - 10:1-48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50-55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next day Peter, six witnesses, and the three men came to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was waiting for them with relatives and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fell down at Peter’s feet and worshipp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said, “Stand up, I myself am also a m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Cornelius wanted to hear all things commanded b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opened his mouth and said: “In truth I perceive that God shows no partiality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preaches Christ and Him crucified to Cornelius and his famil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hile Peter was still speaking, “The Holy Spirit fell upon all those who heard the word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Jewish Christians were aston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Gentiles were able to speak tongues and magnif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Peter answered, “Can anyone forbid water, that these should not be baptized who had received the Holy Spirit just as we have?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nd they were commanded to be baptized in the name of the Lor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eter Preaches In Lydda And Sharon</a:t>
            </a:r>
            <a:br>
              <a:rPr sz="36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ts 9:32-35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church had a time of pe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left Jerusalem on a tour that      took him among discipl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 In Lydda (the Old Testament city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of Lo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In all the plain of Shar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In Jopp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-And finally to Caes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eals a paralytic named Aene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Raises Dorcas From The Dead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9:36-4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orcas (her Greek name) lived in Joppa, a few miles northeast of Lyd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She was rich in good works and did charitable dee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She became sick and di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Disciples sent for Peter in Lydd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raised Dorcas from the d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Many were converted as the report of the raising of Dorcas spr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 man named Cornelius lived in Caes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was a centurion of the Roman coh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was a deeply religious man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feared G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ith all his hous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prayed continuous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helped the po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was praying at three o’clock in the afterno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e saw an open vision( that is, he was awake, not asleep or dreaming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n angel appeared to him and he was frightened, saying, “What is it, Lord?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he angel said, “Your prayers and your good deeds are observed by God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he angel told him to send men to Joppa to bring back Simon who was surnamed Pe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Cornelius sent three men to Jop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three men arrived at Peter’s house around noon the next d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ad gone to the housetop to pr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While Peter was praying, he had a vi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saw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The heaven (sky) ope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A great sheet was lowered by the four corners upon the eart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In the sheet were all kinds of four-footed animals, reptiles and bird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A voice commanded, “Get up, Peter: kill one of these animals and eat it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’s reply, “No way, Lord, for I have never eaten anything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oice replied, “What God has cleansed, do not call common or unclea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is happened three times and the sheet was taken 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ter Preaches The First Sermon To Gentiles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ts 10:1-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had preached on Pentecost, “the promise is to you and to your children and to all that are afar off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Jesus had commanded, “Go ye into all the world and preach the gospel to every creature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Before Peter’s vision, did he understand who the “afar off” were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The vision allowed Peter to understand the gospel was for al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Peter invited the three men to stay in his hou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0:29:31Z</dcterms:created>
  <dc:creator>robert marshall</dc:creator>
  <dc:description/>
  <dc:language>en-US</dc:language>
  <cp:lastModifiedBy>Frank D Vines</cp:lastModifiedBy>
  <dcterms:modified xsi:type="dcterms:W3CDTF">2006-11-12T14:05:27Z</dcterms:modified>
  <cp:revision>12</cp:revision>
  <dc:subject/>
  <dc:title>“Go Tell The Good News” Part 1  The Church Is Scattered</dc:title>
</cp:coreProperties>
</file>